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0056-635C-4317-A756-98BF524D61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618B-4E3D-4CAC-8548-0CDB03D05F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7F6-73D0-448F-A2A0-43FB018E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440-E7A6-4CF9-A078-65C12ABC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AD3-94FC-431D-BDAA-CF818818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964-3719-48CE-BC08-998AEA91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A19-99B7-43B2-924E-891DEB88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320-2786-4275-9388-282222E7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837-27BA-4CFE-B41E-47E5A5B8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950-D047-405D-A8BD-72E9D75E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703-FAA6-4557-A58F-3D19FD35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FD3-07AE-41C7-8EE6-F694D2A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D2E-3457-4739-B09E-0A22E960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4C3-0599-49EF-80C1-C82E984E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E08D-3672-40FB-8B27-3614764E8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50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9" name="图文框 16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0" name="图文框 16" descr=""/>
            <p:cNvPicPr/>
            <p:nvPr/>
          </p:nvPicPr>
          <p:blipFill>
            <a:blip r:embed="rId4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63" name="图文框 4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4" name="图文框 4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7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70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1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73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7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82" name="图文框 1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5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图文框 2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0" name="图文框 2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10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2" descr="745392_094122011_2.jpg"/>
          <p:cNvPicPr/>
          <p:nvPr/>
        </p:nvPicPr>
        <p:blipFill>
          <a:blip r:embed="rId2"/>
          <a:stretch/>
        </p:blipFill>
        <p:spPr>
          <a:xfrm>
            <a:off x="-457200" y="0"/>
            <a:ext cx="6321600" cy="46944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4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4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3943440" y="1581120"/>
            <a:ext cx="125712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nzhou.qi</cp:lastModifiedBy>
  <dcterms:modified xsi:type="dcterms:W3CDTF">2012-11-07T02:57:5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