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53B1-0B1A-4B2C-8BF5-E866763B85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45E-0236-4891-AACC-50E4F08852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B4E-7BAB-411E-BC0C-EF69AFD2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C13-ADB2-40CE-BAA7-5FB9E771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3A5-C933-450D-9CDB-A2698EE5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E70-9F48-4D27-A905-4886174F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A0F-0D68-45AE-BA06-86B9028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7EF-15C5-4E1E-82FD-A772724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636-250B-4B68-B1B9-2DD0A22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3D4-CC72-4D01-94F3-BFFF1162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31C-EAAC-43C0-812C-31670A3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B3D-185C-4C82-A302-F34B615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FD0-D4D9-42A8-8018-5A1B31B3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2C5-E284-4821-9EF7-AFB52F62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CD92-32C7-47ED-A757-7426F0F72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50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9" name="图文框 16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0" name="图文框 16" descr=""/>
            <p:cNvPicPr/>
            <p:nvPr/>
          </p:nvPicPr>
          <p:blipFill>
            <a:blip r:embed="rId4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63" name="图文框 4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64" name="图文框 4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7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70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1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73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7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82" name="图文框 1" descr=""/>
            <p:cNvPicPr/>
            <p:nvPr/>
          </p:nvPicPr>
          <p:blipFill>
            <a:blip r:embed="rId2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85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图文框 2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0" name="图文框 2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9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1"/>
          <p:cNvGrpSpPr/>
          <p:nvPr/>
        </p:nvGrpSpPr>
        <p:grpSpPr>
          <a:xfrm>
            <a:off x="-23760" y="-23760"/>
            <a:ext cx="9191520" cy="5186160"/>
            <a:chOff x="-23760" y="-23760"/>
            <a:chExt cx="9191520" cy="5186160"/>
          </a:xfrm>
        </p:grpSpPr>
        <p:pic>
          <p:nvPicPr>
            <p:cNvPr id="109" name="图文框 1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91520" cy="51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4520" y="74520"/>
              <a:ext cx="89949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2" descr="745392_094122011_2.jpg"/>
          <p:cNvPicPr/>
          <p:nvPr/>
        </p:nvPicPr>
        <p:blipFill>
          <a:blip r:embed="rId2"/>
          <a:stretch/>
        </p:blipFill>
        <p:spPr>
          <a:xfrm>
            <a:off x="-457200" y="0"/>
            <a:ext cx="6321600" cy="46944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24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14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43440" y="1581120"/>
            <a:ext cx="125712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nzhou.qi</cp:lastModifiedBy>
  <dcterms:modified xsi:type="dcterms:W3CDTF">2012-11-07T02:57:5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